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5984-A942-435E-9196-E5F239EBD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A2E9-1356-4D54-BD9D-83EB2FAA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1463-BB38-4032-8C0C-58ED73CF9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4933-85F0-4E3D-AD39-40A1ED103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E6C0-691E-434B-B073-3B270027E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0ACC-A762-440A-BD8F-6F6A7ED6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AB45-115D-4C6E-8EB4-FD4E7BCF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074C-F2A5-4B78-87EA-51663219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284D-3F80-4A84-B558-5E249956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C427-D3CE-4C36-AA67-69D94A53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6C92-4FFE-4148-891F-CEA16589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7A97-F78F-48FE-AE5A-16B71189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CC85-2E56-464F-9BF2-F234E80F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5D5A-5961-43FE-B308-EB54D1AF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6124-8282-4DE1-8426-14D6B9EE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9964-316D-4FF5-B59E-EBEBD4EED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4768-7937-42CD-8E20-F1AFD5F9E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45F6-73DC-4866-92ED-9F37EA77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BA02-32F5-445F-9772-D0BA4D09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9F9B-D0D9-4FB0-823F-B6F38C4C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4499-2600-43B0-98A4-060E8D1C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5B43-225B-4C9D-8DA1-33887CAB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0A70-26BE-4B53-9D1B-F2C20D26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2859-D505-470E-9F33-A17CB3D6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BA7A-9B24-42F8-BB09-803E74CAA8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2F46-BBB4-44C1-87CA-32358C5E21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video.aol.com/" TargetMode="External"/><Relationship Id="rId3" Type="http://schemas.openxmlformats.org/officeDocument/2006/relationships/hyperlink" Target="http://video.aol.com/" TargetMode="External"/><Relationship Id="rId4" Type="http://schemas.openxmlformats.org/officeDocument/2006/relationships/hyperlink" Target="http://video.aol.com/" TargetMode="External"/><Relationship Id="rId5" Type="http://schemas.openxmlformats.org/officeDocument/2006/relationships/hyperlink" Target="http://www.clipblast.com/" TargetMode="External"/><Relationship Id="rId6" Type="http://schemas.openxmlformats.org/officeDocument/2006/relationships/hyperlink" Target="http://www.clipblast.com/" TargetMode="External"/><Relationship Id="rId7" Type="http://schemas.openxmlformats.org/officeDocument/2006/relationships/hyperlink" Target="http://www.clipblast.com/" TargetMode="External"/><Relationship Id="rId8" Type="http://schemas.openxmlformats.org/officeDocument/2006/relationships/hyperlink" Target="http://www.clipshack.com/" TargetMode="External"/><Relationship Id="rId9" Type="http://schemas.openxmlformats.org/officeDocument/2006/relationships/hyperlink" Target="http://www.clipshack.com/" TargetMode="External"/><Relationship Id="rId10" Type="http://schemas.openxmlformats.org/officeDocument/2006/relationships/hyperlink" Target="http://www.clipshack.com/" TargetMode="External"/><Relationship Id="rId11" Type="http://schemas.openxmlformats.org/officeDocument/2006/relationships/hyperlink" Target="http://www.clipta.com/" TargetMode="External"/><Relationship Id="rId12" Type="http://schemas.openxmlformats.org/officeDocument/2006/relationships/hyperlink" Target="http://www.clipta.com/" TargetMode="External"/><Relationship Id="rId13" Type="http://schemas.openxmlformats.org/officeDocument/2006/relationships/hyperlink" Target="http://www.clipta.com/" TargetMode="External"/><Relationship Id="rId14" Type="http://schemas.openxmlformats.org/officeDocument/2006/relationships/hyperlink" Target="http://www.expertvillage.com/" TargetMode="External"/><Relationship Id="rId15" Type="http://schemas.openxmlformats.org/officeDocument/2006/relationships/hyperlink" Target="http://www.expertvillage.com/" TargetMode="External"/><Relationship Id="rId16" Type="http://schemas.openxmlformats.org/officeDocument/2006/relationships/hyperlink" Target="http://www.expertvillage.com/" TargetMode="External"/><Relationship Id="rId17" Type="http://schemas.openxmlformats.org/officeDocument/2006/relationships/hyperlink" Target="http://www.ffwd.com/" TargetMode="External"/><Relationship Id="rId18" Type="http://schemas.openxmlformats.org/officeDocument/2006/relationships/hyperlink" Target="http://www.ffwd.com/" TargetMode="External"/><Relationship Id="rId19" Type="http://schemas.openxmlformats.org/officeDocument/2006/relationships/hyperlink" Target="http://www.ffwd.com/" TargetMode="External"/><Relationship Id="rId20" Type="http://schemas.openxmlformats.org/officeDocument/2006/relationships/hyperlink" Target="http://www.flixya.com/" TargetMode="External"/><Relationship Id="rId21" Type="http://schemas.openxmlformats.org/officeDocument/2006/relationships/hyperlink" Target="http://www.flixya.com/" TargetMode="External"/><Relationship Id="rId22" Type="http://schemas.openxmlformats.org/officeDocument/2006/relationships/hyperlink" Target="http://www.flixya.com/" TargetMode="External"/><Relationship Id="rId23" Type="http://schemas.openxmlformats.org/officeDocument/2006/relationships/hyperlink" Target="http://video.google.com/" TargetMode="External"/><Relationship Id="rId24" Type="http://schemas.openxmlformats.org/officeDocument/2006/relationships/hyperlink" Target="http://video.google.com/" TargetMode="External"/><Relationship Id="rId25" Type="http://schemas.openxmlformats.org/officeDocument/2006/relationships/hyperlink" Target="http://video.google.com/" TargetMode="External"/><Relationship Id="rId26" Type="http://schemas.openxmlformats.org/officeDocument/2006/relationships/hyperlink" Target="http://www.guba.com/" TargetMode="External"/><Relationship Id="rId27" Type="http://schemas.openxmlformats.org/officeDocument/2006/relationships/hyperlink" Target="http://www.guba.com/" TargetMode="External"/><Relationship Id="rId28" Type="http://schemas.openxmlformats.org/officeDocument/2006/relationships/hyperlink" Target="http://www.guba.com/" TargetMode="External"/><Relationship Id="rId29" Type="http://schemas.openxmlformats.org/officeDocument/2006/relationships/hyperlink" Target="http://www.juicecaster.com/" TargetMode="External"/><Relationship Id="rId30" Type="http://schemas.openxmlformats.org/officeDocument/2006/relationships/hyperlink" Target="http://www.juicecaster.com/" TargetMode="External"/><Relationship Id="rId31" Type="http://schemas.openxmlformats.org/officeDocument/2006/relationships/hyperlink" Target="http://www.juicecaster.com/" TargetMode="External"/><Relationship Id="rId32" Type="http://schemas.openxmlformats.org/officeDocument/2006/relationships/hyperlink" Target="http://www.meevee.com/" TargetMode="External"/><Relationship Id="rId33" Type="http://schemas.openxmlformats.org/officeDocument/2006/relationships/hyperlink" Target="http://www.meevee.com/" TargetMode="External"/><Relationship Id="rId34" Type="http://schemas.openxmlformats.org/officeDocument/2006/relationships/hyperlink" Target="http://www.meevee.com/" TargetMode="External"/><Relationship Id="rId35" Type="http://schemas.openxmlformats.org/officeDocument/2006/relationships/hyperlink" Target="http://www.mefeedia.com/" TargetMode="External"/><Relationship Id="rId36" Type="http://schemas.openxmlformats.org/officeDocument/2006/relationships/hyperlink" Target="http://www.mefeedia.com/" TargetMode="External"/><Relationship Id="rId37" Type="http://schemas.openxmlformats.org/officeDocument/2006/relationships/hyperlink" Target="http://www.mefeedia.com/" TargetMode="External"/><Relationship Id="rId38" Type="http://schemas.openxmlformats.org/officeDocument/2006/relationships/hyperlink" Target="http://www.megavideo.com/" TargetMode="External"/><Relationship Id="rId39" Type="http://schemas.openxmlformats.org/officeDocument/2006/relationships/hyperlink" Target="http://www.megavideo.com/" TargetMode="External"/><Relationship Id="rId40" Type="http://schemas.openxmlformats.org/officeDocument/2006/relationships/hyperlink" Target="http://www.megavideo.com/" TargetMode="External"/><Relationship Id="rId41" Type="http://schemas.openxmlformats.org/officeDocument/2006/relationships/hyperlink" Target="http://video.msn.com/" TargetMode="External"/><Relationship Id="rId42" Type="http://schemas.openxmlformats.org/officeDocument/2006/relationships/hyperlink" Target="http://ovguide.com/" TargetMode="External"/><Relationship Id="rId43" Type="http://schemas.openxmlformats.org/officeDocument/2006/relationships/hyperlink" Target="http://ovguide.com/" TargetMode="External"/><Relationship Id="rId44" Type="http://schemas.openxmlformats.org/officeDocument/2006/relationships/hyperlink" Target="http://ovguide.com/" TargetMode="External"/><Relationship Id="rId45" Type="http://schemas.openxmlformats.org/officeDocument/2006/relationships/hyperlink" Target="http://www.panjea.com/" TargetMode="External"/><Relationship Id="rId46" Type="http://schemas.openxmlformats.org/officeDocument/2006/relationships/hyperlink" Target="http://www.panjea.com/" TargetMode="External"/><Relationship Id="rId47" Type="http://schemas.openxmlformats.org/officeDocument/2006/relationships/hyperlink" Target="http://www.panjea.com/" TargetMode="External"/><Relationship Id="rId48" Type="http://schemas.openxmlformats.org/officeDocument/2006/relationships/hyperlink" Target="http://www.searchforvideo.com/" TargetMode="External"/><Relationship Id="rId49" Type="http://schemas.openxmlformats.org/officeDocument/2006/relationships/hyperlink" Target="http://www.searchforvideo.com/" TargetMode="External"/><Relationship Id="rId50" Type="http://schemas.openxmlformats.org/officeDocument/2006/relationships/hyperlink" Target="http://www.searchforvideo.com/" TargetMode="External"/><Relationship Id="rId51" Type="http://schemas.openxmlformats.org/officeDocument/2006/relationships/hyperlink" Target="http://sproose.com/" TargetMode="External"/><Relationship Id="rId52" Type="http://schemas.openxmlformats.org/officeDocument/2006/relationships/hyperlink" Target="http://sproose.com/" TargetMode="External"/><Relationship Id="rId53" Type="http://schemas.openxmlformats.org/officeDocument/2006/relationships/hyperlink" Target="http://sproose.com/" TargetMode="External"/><Relationship Id="rId54" Type="http://schemas.openxmlformats.org/officeDocument/2006/relationships/hyperlink" Target="http://www.stickam.com/" TargetMode="External"/><Relationship Id="rId55" Type="http://schemas.openxmlformats.org/officeDocument/2006/relationships/hyperlink" Target="http://www.stickam.com/" TargetMode="External"/><Relationship Id="rId56" Type="http://schemas.openxmlformats.org/officeDocument/2006/relationships/hyperlink" Target="http://www.stickam.com/" TargetMode="External"/><Relationship Id="rId57" Type="http://schemas.openxmlformats.org/officeDocument/2006/relationships/hyperlink" Target="http://www.sutree.com/" TargetMode="External"/><Relationship Id="rId58" Type="http://schemas.openxmlformats.org/officeDocument/2006/relationships/hyperlink" Target="http://www.sutree.com/" TargetMode="External"/><Relationship Id="rId59" Type="http://schemas.openxmlformats.org/officeDocument/2006/relationships/hyperlink" Target="http://www.sutree.com/" TargetMode="External"/><Relationship Id="rId60" Type="http://schemas.openxmlformats.org/officeDocument/2006/relationships/hyperlink" Target="http://www.trooker.com/" TargetMode="External"/><Relationship Id="rId61" Type="http://schemas.openxmlformats.org/officeDocument/2006/relationships/hyperlink" Target="http://www.trooker.com/" TargetMode="External"/><Relationship Id="rId62" Type="http://schemas.openxmlformats.org/officeDocument/2006/relationships/hyperlink" Target="http://www.trooker.com/" TargetMode="External"/><Relationship Id="rId63" Type="http://schemas.openxmlformats.org/officeDocument/2006/relationships/hyperlink" Target="http://www.uvouch.com/" TargetMode="External"/><Relationship Id="rId64" Type="http://schemas.openxmlformats.org/officeDocument/2006/relationships/hyperlink" Target="http://www.uvouch.com/" TargetMode="External"/><Relationship Id="rId65" Type="http://schemas.openxmlformats.org/officeDocument/2006/relationships/hyperlink" Target="http://www.uvouch.com/" TargetMode="External"/><Relationship Id="rId6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Video Clips in the Classroom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Nathan Stew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ational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ying an entire movie is not always practical and you might only want to show certain parts of mov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many historical video clips that have been taken from news feeds and personal recording devices that are very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ing is about sharing and stealing ideas and projects from other teachers and making it work for yo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’s good to use visual aids to diversify learning meth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’s always good to know many places to go to find more vide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of you would like to use these videos, but are not sure how to get around the sights that schools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Video Search engin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</a:rPr>
              <a:t>http://www.blinkx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</a:rPr>
              <a:t>http://www.clipblas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</a:rPr>
              <a:t>http://en.fooooo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</a:rPr>
              <a:t>http://www.metacafe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</a:rPr>
              <a:t>http://www.pixsy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</a:rPr>
              <a:t>http://www.purevideo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</a:rPr>
              <a:t>http://www.altavista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2"/>
              </a:rPr>
              <a:t>http://video.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3"/>
              </a:rPr>
              <a:t>aol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4"/>
              </a:rPr>
              <a:t>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5"/>
              </a:rPr>
              <a:t>http://www.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6"/>
              </a:rPr>
              <a:t>clipblast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7"/>
              </a:rPr>
              <a:t>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8"/>
              </a:rPr>
              <a:t>http://www.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9"/>
              </a:rPr>
              <a:t>clipshack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10"/>
              </a:rPr>
              <a:t>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11"/>
              </a:rPr>
              <a:t>http://www.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12"/>
              </a:rPr>
              <a:t>clipta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13"/>
              </a:rPr>
              <a:t>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14"/>
              </a:rPr>
              <a:t>http://www.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15"/>
              </a:rPr>
              <a:t>expertvillage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16"/>
              </a:rPr>
              <a:t>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17"/>
              </a:rPr>
              <a:t>http://www.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18"/>
              </a:rPr>
              <a:t>ffwd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19"/>
              </a:rPr>
              <a:t>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20"/>
              </a:rPr>
              <a:t>http://www.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21"/>
              </a:rPr>
              <a:t>flixya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22"/>
              </a:rPr>
              <a:t>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23"/>
              </a:rPr>
              <a:t>http://video.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24"/>
              </a:rPr>
              <a:t>google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25"/>
              </a:rPr>
              <a:t>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26"/>
              </a:rPr>
              <a:t>http://www.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27"/>
              </a:rPr>
              <a:t>guba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28"/>
              </a:rPr>
              <a:t>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29"/>
              </a:rPr>
              <a:t>http://www.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30"/>
              </a:rPr>
              <a:t>juicecaster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31"/>
              </a:rPr>
              <a:t>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32"/>
              </a:rPr>
              <a:t>http://www.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33"/>
              </a:rPr>
              <a:t>meevee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34"/>
              </a:rPr>
              <a:t>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35"/>
              </a:rPr>
              <a:t>http://www.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36"/>
              </a:rPr>
              <a:t>mefeedia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37"/>
              </a:rPr>
              <a:t>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38"/>
              </a:rPr>
              <a:t>http://www.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39"/>
              </a:rPr>
              <a:t>megavideo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40"/>
              </a:rPr>
              <a:t>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41"/>
              </a:rPr>
              <a:t>http://video.msn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42"/>
              </a:rPr>
              <a:t>http: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43"/>
              </a:rPr>
              <a:t>//ovguide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44"/>
              </a:rPr>
              <a:t>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45"/>
              </a:rPr>
              <a:t>http://www.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46"/>
              </a:rPr>
              <a:t>panjea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47"/>
              </a:rPr>
              <a:t>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48"/>
              </a:rPr>
              <a:t>http://www.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49"/>
              </a:rPr>
              <a:t>searchforvideo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50"/>
              </a:rPr>
              <a:t>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51"/>
              </a:rPr>
              <a:t>http: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52"/>
              </a:rPr>
              <a:t>//sproose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53"/>
              </a:rPr>
              <a:t>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54"/>
              </a:rPr>
              <a:t>http://www.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55"/>
              </a:rPr>
              <a:t>stickam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56"/>
              </a:rPr>
              <a:t>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57"/>
              </a:rPr>
              <a:t>http://www.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58"/>
              </a:rPr>
              <a:t>sutree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59"/>
              </a:rPr>
              <a:t>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60"/>
              </a:rPr>
              <a:t>http://www.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61"/>
              </a:rPr>
              <a:t>trooker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62"/>
              </a:rPr>
              <a:t>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63"/>
              </a:rPr>
              <a:t>http://www.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64"/>
              </a:rPr>
              <a:t>uvouch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65"/>
              </a:rPr>
              <a:t>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</a:rPr>
              <a:t>http://www.veoh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</a:rPr>
              <a:t>http://www.videocrawler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</a:rPr>
              <a:t>http://www.videosurf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</a:rPr>
              <a:t>http://search.live.com/vide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</a:rPr>
              <a:t>http://video.yahoo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</a:rPr>
              <a:t>http://www.youtube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03:06:21Z</dcterms:created>
  <dc:creator>nathan  stewart</dc:creator>
  <dc:description/>
  <dc:language>en-US</dc:language>
  <cp:lastModifiedBy>nathan  stewart</cp:lastModifiedBy>
  <dcterms:modified xsi:type="dcterms:W3CDTF">2009-04-20T04:48:00Z</dcterms:modified>
  <cp:revision>2</cp:revision>
  <dc:subject/>
  <dc:title>Video Clips in the Classroom</dc:title>
</cp:coreProperties>
</file>